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5.wmf" ContentType="image/x-wmf"/>
  <Override PartName="/ppt/media/driveby.wav" ContentType="audio/x-wav"/>
  <Override PartName="/ppt/media/image13.wmf" ContentType="image/x-wmf"/>
  <Override PartName="/ppt/media/EXPLODE.WAV" ContentType="audio/x-wav"/>
  <Override PartName="/ppt/media/image14.wmf" ContentType="image/x-wmf"/>
  <Override PartName="/ppt/media/LASER.WAV" ContentType="audio/x-wav"/>
  <Override PartName="/ppt/media/image20.wmf" ContentType="image/x-wmf"/>
  <Override PartName="/ppt/media/image18.wmf" ContentType="image/x-wmf"/>
  <Override PartName="/ppt/media/CHIMES.WAV" ContentType="audio/x-wav"/>
  <Override PartName="/ppt/media/image28.wmf" ContentType="image/x-wmf"/>
  <Override PartName="/ppt/media/CAMERA.WAV" ContentType="audio/x-wav"/>
  <Override PartName="/ppt/media/carbrake.wav" ContentType="audio/x-wav"/>
  <Override PartName="/ppt/media/image1.wmf" ContentType="image/x-wmf"/>
  <Override PartName="/ppt/media/image31.wmf" ContentType="image/x-wmf"/>
  <Override PartName="/ppt/media/image2.wmf" ContentType="image/x-wmf"/>
  <Override PartName="/ppt/media/image32.wmf" ContentType="image/x-wmf"/>
  <Override PartName="/ppt/media/image16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media/image27.wmf" ContentType="image/x-wmf"/>
  <Override PartName="/ppt/media/WHOOSH.WAV" ContentType="audio/x-wav"/>
  <Override PartName="/ppt/media/image29.wmf" ContentType="image/x-wmf"/>
  <Override PartName="/ppt/media/image40.wmf" ContentType="image/x-wmf"/>
  <Override PartName="/ppt/media/image44.gif" ContentType="image/gi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39.wmf" ContentType="image/x-wmf"/>
  <Override PartName="/ppt/media/image9.wmf" ContentType="image/x-wmf"/>
  <Override PartName="/ppt/media/image4.wmf" ContentType="image/x-wmf"/>
  <Override PartName="/ppt/media/image34.wmf" ContentType="image/x-wmf"/>
  <Override PartName="/ppt/media/image38.wmf" ContentType="image/x-wmf"/>
  <Override PartName="/ppt/media/image8.wmf" ContentType="image/x-wmf"/>
  <Override PartName="/ppt/media/image3.wmf" ContentType="image/x-wmf"/>
  <Override PartName="/ppt/media/image33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B8C6-F2AD-432C-A509-50409D14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CB2C-1786-421B-885A-BBD623FA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342A-45AB-4D25-82B4-D2260D54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5D4D-E2C5-4ABA-8D0F-64AE9868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99A6-071C-40B2-9A3E-7418B5E3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BC34-731D-495A-B768-C66CBB87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E6B5-47A8-44FF-9536-48CD5027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E48A-C7DA-49AF-B90C-1E6DF561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F035-E2BA-4DE8-A69A-CFA84231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9503-F892-4607-9D9F-0D2A8545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31C2-AB6D-48B3-BC75-AD278FCA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FD7B-5631-4E97-8BD5-D3657B7B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B1D5-9F4C-4A88-BC3C-A0D5C147A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.wmf"/><Relationship Id="rId31" Type="http://schemas.openxmlformats.org/officeDocument/2006/relationships/audio" Target="../media/WHOOSH.WAV"/><Relationship Id="rId32" Type="http://schemas.openxmlformats.org/officeDocument/2006/relationships/audio" Target="../media/CHIMES.WAV"/><Relationship Id="rId33" Type="http://schemas.openxmlformats.org/officeDocument/2006/relationships/audio" Target="../media/CAMERA.WAV"/><Relationship Id="rId34" Type="http://schemas.openxmlformats.org/officeDocument/2006/relationships/audio" Target="../media/LASER.WAV"/><Relationship Id="rId35" Type="http://schemas.openxmlformats.org/officeDocument/2006/relationships/audio" Target="../media/LASER.WAV"/><Relationship Id="rId36" Type="http://schemas.openxmlformats.org/officeDocument/2006/relationships/audio" Target="../media/driveby.wav"/><Relationship Id="rId37" Type="http://schemas.openxmlformats.org/officeDocument/2006/relationships/audio" Target="../media/EXPLODE.WAV"/><Relationship Id="rId38" Type="http://schemas.openxmlformats.org/officeDocument/2006/relationships/audio" Target="../media/EXPLODE.WAV"/><Relationship Id="rId39" Type="http://schemas.openxmlformats.org/officeDocument/2006/relationships/audio" Target="../media/CAMERA.WAV"/><Relationship Id="rId40" Type="http://schemas.openxmlformats.org/officeDocument/2006/relationships/audio" Target="../media/LASER.WAV"/><Relationship Id="rId41" Type="http://schemas.openxmlformats.org/officeDocument/2006/relationships/audio" Target="../media/LASER.WAV"/><Relationship Id="rId42" Type="http://schemas.openxmlformats.org/officeDocument/2006/relationships/audio" Target="../media/driveby.wav"/><Relationship Id="rId43" Type="http://schemas.openxmlformats.org/officeDocument/2006/relationships/audio" Target="../media/EXPLODE.WAV"/><Relationship Id="rId44" Type="http://schemas.openxmlformats.org/officeDocument/2006/relationships/audio" Target="../media/EXPLODE.WAV"/><Relationship Id="rId45" Type="http://schemas.openxmlformats.org/officeDocument/2006/relationships/audio" Target="../media/CAMERA.WAV"/><Relationship Id="rId46" Type="http://schemas.openxmlformats.org/officeDocument/2006/relationships/audio" Target="../media/LASER.WAV"/><Relationship Id="rId47" Type="http://schemas.openxmlformats.org/officeDocument/2006/relationships/audio" Target="../media/LASER.WAV"/><Relationship Id="rId48" Type="http://schemas.openxmlformats.org/officeDocument/2006/relationships/audio" Target="../media/driveby.wav"/><Relationship Id="rId49" Type="http://schemas.openxmlformats.org/officeDocument/2006/relationships/audio" Target="../media/EXPLODE.WAV"/><Relationship Id="rId50" Type="http://schemas.openxmlformats.org/officeDocument/2006/relationships/audio" Target="../media/EXPLODE.WAV"/><Relationship Id="rId5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4.wmf"/><Relationship Id="rId31" Type="http://schemas.openxmlformats.org/officeDocument/2006/relationships/audio" Target="../media/CAMERA.WAV"/><Relationship Id="rId32" Type="http://schemas.openxmlformats.org/officeDocument/2006/relationships/audio" Target="../media/LASER.WAV"/><Relationship Id="rId33" Type="http://schemas.openxmlformats.org/officeDocument/2006/relationships/audio" Target="../media/LASER.WAV"/><Relationship Id="rId34" Type="http://schemas.openxmlformats.org/officeDocument/2006/relationships/audio" Target="../media/driveby.wav"/><Relationship Id="rId35" Type="http://schemas.openxmlformats.org/officeDocument/2006/relationships/audio" Target="../media/EXPLODE.WAV"/><Relationship Id="rId36" Type="http://schemas.openxmlformats.org/officeDocument/2006/relationships/audio" Target="../media/EXPLODE.WAV"/><Relationship Id="rId37" Type="http://schemas.openxmlformats.org/officeDocument/2006/relationships/audio" Target="../media/CAMERA.WAV"/><Relationship Id="rId38" Type="http://schemas.openxmlformats.org/officeDocument/2006/relationships/audio" Target="../media/LASER.WAV"/><Relationship Id="rId39" Type="http://schemas.openxmlformats.org/officeDocument/2006/relationships/audio" Target="../media/LASER.WAV"/><Relationship Id="rId40" Type="http://schemas.openxmlformats.org/officeDocument/2006/relationships/audio" Target="../media/driveby.wav"/><Relationship Id="rId41" Type="http://schemas.openxmlformats.org/officeDocument/2006/relationships/audio" Target="../media/EXPLODE.WAV"/><Relationship Id="rId42" Type="http://schemas.openxmlformats.org/officeDocument/2006/relationships/audio" Target="../media/EXPLODE.WAV"/><Relationship Id="rId43" Type="http://schemas.openxmlformats.org/officeDocument/2006/relationships/audio" Target="../media/CAMERA.WAV"/><Relationship Id="rId44" Type="http://schemas.openxmlformats.org/officeDocument/2006/relationships/audio" Target="../media/LASER.WAV"/><Relationship Id="rId45" Type="http://schemas.openxmlformats.org/officeDocument/2006/relationships/audio" Target="../media/LASER.WAV"/><Relationship Id="rId46" Type="http://schemas.openxmlformats.org/officeDocument/2006/relationships/audio" Target="../media/driveby.wav"/><Relationship Id="rId47" Type="http://schemas.openxmlformats.org/officeDocument/2006/relationships/audio" Target="../media/EXPLODE.WAV"/><Relationship Id="rId48" Type="http://schemas.openxmlformats.org/officeDocument/2006/relationships/audio" Target="../media/EXPLODE.WAV"/><Relationship Id="rId4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4.wmf"/><Relationship Id="rId29" Type="http://schemas.openxmlformats.org/officeDocument/2006/relationships/audio" Target="../media/CAMERA.WAV"/><Relationship Id="rId30" Type="http://schemas.openxmlformats.org/officeDocument/2006/relationships/audio" Target="../media/LASER.WAV"/><Relationship Id="rId31" Type="http://schemas.openxmlformats.org/officeDocument/2006/relationships/audio" Target="../media/LASER.WAV"/><Relationship Id="rId32" Type="http://schemas.openxmlformats.org/officeDocument/2006/relationships/audio" Target="../media/driveby.wav"/><Relationship Id="rId33" Type="http://schemas.openxmlformats.org/officeDocument/2006/relationships/audio" Target="../media/EXPLODE.WAV"/><Relationship Id="rId34" Type="http://schemas.openxmlformats.org/officeDocument/2006/relationships/audio" Target="../media/EXPLODE.WAV"/><Relationship Id="rId35" Type="http://schemas.openxmlformats.org/officeDocument/2006/relationships/audio" Target="../media/CAMERA.WAV"/><Relationship Id="rId36" Type="http://schemas.openxmlformats.org/officeDocument/2006/relationships/audio" Target="../media/LASER.WAV"/><Relationship Id="rId37" Type="http://schemas.openxmlformats.org/officeDocument/2006/relationships/audio" Target="../media/LASER.WAV"/><Relationship Id="rId38" Type="http://schemas.openxmlformats.org/officeDocument/2006/relationships/audio" Target="../media/driveby.wav"/><Relationship Id="rId39" Type="http://schemas.openxmlformats.org/officeDocument/2006/relationships/audio" Target="../media/EXPLODE.WAV"/><Relationship Id="rId40" Type="http://schemas.openxmlformats.org/officeDocument/2006/relationships/audio" Target="../media/EXPLODE.WAV"/><Relationship Id="rId41" Type="http://schemas.openxmlformats.org/officeDocument/2006/relationships/audio" Target="../media/CAMERA.WAV"/><Relationship Id="rId42" Type="http://schemas.openxmlformats.org/officeDocument/2006/relationships/audio" Target="../media/LASER.WAV"/><Relationship Id="rId43" Type="http://schemas.openxmlformats.org/officeDocument/2006/relationships/audio" Target="../media/LASER.WAV"/><Relationship Id="rId44" Type="http://schemas.openxmlformats.org/officeDocument/2006/relationships/audio" Target="../media/driveby.wav"/><Relationship Id="rId45" Type="http://schemas.openxmlformats.org/officeDocument/2006/relationships/audio" Target="../media/EXPLODE.WAV"/><Relationship Id="rId46" Type="http://schemas.openxmlformats.org/officeDocument/2006/relationships/audio" Target="../media/EXPLODE.WAV"/><Relationship Id="rId4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5.wmf"/><Relationship Id="rId21" Type="http://schemas.openxmlformats.org/officeDocument/2006/relationships/image" Target="../media/image44.gif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AMERA.WAV"/><Relationship Id="rId25" Type="http://schemas.openxmlformats.org/officeDocument/2006/relationships/audio" Target="../media/WHOOSH.WAV"/><Relationship Id="rId26" Type="http://schemas.openxmlformats.org/officeDocument/2006/relationships/audio" Target="../media/WHOOSH.WAV"/><Relationship Id="rId27" Type="http://schemas.openxmlformats.org/officeDocument/2006/relationships/audio" Target="../media/LASER.WAV"/><Relationship Id="rId28" Type="http://schemas.openxmlformats.org/officeDocument/2006/relationships/audio" Target="../media/WHOOSH.WAV"/><Relationship Id="rId29" Type="http://schemas.openxmlformats.org/officeDocument/2006/relationships/audio" Target="../media/LASER.WAV"/><Relationship Id="rId30" Type="http://schemas.openxmlformats.org/officeDocument/2006/relationships/audio" Target="../media/WHOOSH.WAV"/><Relationship Id="rId31" Type="http://schemas.openxmlformats.org/officeDocument/2006/relationships/audio" Target="../media/CAMERA.WAV"/><Relationship Id="rId32" Type="http://schemas.openxmlformats.org/officeDocument/2006/relationships/audio" Target="../media/CAMERA.WAV"/><Relationship Id="rId33" Type="http://schemas.openxmlformats.org/officeDocument/2006/relationships/audio" Target="../media/CAMERA.WAV"/><Relationship Id="rId34" Type="http://schemas.openxmlformats.org/officeDocument/2006/relationships/audio" Target="../media/LASER.WAV"/><Relationship Id="rId35" Type="http://schemas.openxmlformats.org/officeDocument/2006/relationships/audio" Target="../media/LASER.WAV"/><Relationship Id="rId36" Type="http://schemas.openxmlformats.org/officeDocument/2006/relationships/audio" Target="../media/driveby.wav"/><Relationship Id="rId37" Type="http://schemas.openxmlformats.org/officeDocument/2006/relationships/audio" Target="../media/EXPLODE.WAV"/><Relationship Id="rId38" Type="http://schemas.openxmlformats.org/officeDocument/2006/relationships/audio" Target="../media/EXPLODE.WAV"/><Relationship Id="rId39" Type="http://schemas.openxmlformats.org/officeDocument/2006/relationships/audio" Target="../media/carbrake.wav"/><Relationship Id="rId4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04920" y="1295280"/>
          <a:ext cx="2884320" cy="5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288432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219320" y="1752480"/>
          <a:ext cx="108900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1752480"/>
                    <a:ext cx="10890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752480" y="2438280"/>
          <a:ext cx="412920" cy="56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2438280"/>
                    <a:ext cx="41292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209680" y="1752480"/>
          <a:ext cx="108900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1752480"/>
                    <a:ext cx="10890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143000" y="2362320"/>
            <a:ext cx="22096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057400" y="2362320"/>
          <a:ext cx="1238400" cy="62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2362320"/>
                    <a:ext cx="12384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454640" y="1295280"/>
          <a:ext cx="3120840" cy="567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54640" y="1295280"/>
                    <a:ext cx="312084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589720" y="1752480"/>
          <a:ext cx="88092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89720" y="1752480"/>
                    <a:ext cx="880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867280" y="2438280"/>
          <a:ext cx="515880" cy="517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67280" y="2438280"/>
                    <a:ext cx="5158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781680" y="1752480"/>
          <a:ext cx="88128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81680" y="1752480"/>
                    <a:ext cx="8812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5410080" y="2362320"/>
            <a:ext cx="22100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324480" y="2362320"/>
          <a:ext cx="1290600" cy="620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24480" y="2362320"/>
                    <a:ext cx="12906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04640" y="3405240"/>
          <a:ext cx="2837160" cy="614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4640" y="3405240"/>
                    <a:ext cx="283716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438280" y="3886200"/>
          <a:ext cx="828720" cy="612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38280" y="3886200"/>
                    <a:ext cx="82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523880" y="4495680"/>
          <a:ext cx="1082880" cy="673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523880" y="4495680"/>
                    <a:ext cx="10828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762120" y="3886200"/>
          <a:ext cx="828720" cy="6127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62120" y="3886200"/>
                    <a:ext cx="82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066680" y="4495680"/>
            <a:ext cx="22100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14400" y="4572000"/>
          <a:ext cx="722160" cy="620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914400" y="4572000"/>
                    <a:ext cx="7221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04920" y="1295280"/>
          <a:ext cx="3027240" cy="5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302724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74840" y="1752480"/>
          <a:ext cx="77796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1752480"/>
                    <a:ext cx="7779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1727280" y="2463840"/>
          <a:ext cx="465120" cy="51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27280" y="2463840"/>
                    <a:ext cx="4651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2514600" y="1752480"/>
          <a:ext cx="77796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4600" y="1752480"/>
                    <a:ext cx="7779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143000" y="2362320"/>
            <a:ext cx="22096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057400" y="2362320"/>
          <a:ext cx="1341360" cy="62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7400" y="2362320"/>
                    <a:ext cx="1341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419720" y="1295280"/>
          <a:ext cx="3546360" cy="61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19720" y="1295280"/>
                    <a:ext cx="35463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257800" y="1752480"/>
          <a:ext cx="82872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57800" y="1752480"/>
                    <a:ext cx="82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400800" y="2362320"/>
          <a:ext cx="465120" cy="672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00800" y="2362320"/>
                    <a:ext cx="46512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086600" y="1752480"/>
          <a:ext cx="82872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86600" y="1752480"/>
                    <a:ext cx="82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410080" y="2362320"/>
            <a:ext cx="25909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07240" y="2362320"/>
          <a:ext cx="1239840" cy="620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807240" y="2362320"/>
                    <a:ext cx="12398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80880" y="3429000"/>
          <a:ext cx="3214800" cy="566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80880" y="3429000"/>
                    <a:ext cx="321480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514600" y="3886200"/>
          <a:ext cx="1190520" cy="612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14600" y="3886200"/>
                    <a:ext cx="1190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498680" y="4572000"/>
          <a:ext cx="1133280" cy="519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498680" y="4572000"/>
                    <a:ext cx="11332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57200" y="3886200"/>
          <a:ext cx="1190520" cy="6127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57200" y="3886200"/>
                    <a:ext cx="1190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762120" y="4495680"/>
            <a:ext cx="28954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62120" y="4495680"/>
          <a:ext cx="825480" cy="621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62120" y="4495680"/>
                    <a:ext cx="8254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46040" y="1295280"/>
          <a:ext cx="2743200" cy="5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1295280"/>
                    <a:ext cx="274320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838080" y="1752480"/>
          <a:ext cx="82872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752480"/>
                    <a:ext cx="82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905120" y="2438280"/>
          <a:ext cx="465120" cy="5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2438280"/>
                    <a:ext cx="4651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438280" y="1752480"/>
          <a:ext cx="82872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1752480"/>
                    <a:ext cx="82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143000" y="2362320"/>
            <a:ext cx="25909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362320" y="2362320"/>
          <a:ext cx="1341360" cy="620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2362320"/>
                    <a:ext cx="1341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5130720" y="1295280"/>
          <a:ext cx="2884680" cy="61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30720" y="1295280"/>
                    <a:ext cx="28846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7213680" y="1752480"/>
          <a:ext cx="88092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213680" y="1752480"/>
                    <a:ext cx="880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248520" y="2286000"/>
          <a:ext cx="1033200" cy="673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48520" y="2286000"/>
                    <a:ext cx="10332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537160" y="1752480"/>
          <a:ext cx="88128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37160" y="1752480"/>
                    <a:ext cx="8812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5638680" y="2362320"/>
            <a:ext cx="259092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867280" y="2362320"/>
          <a:ext cx="515880" cy="620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67280" y="2362320"/>
                    <a:ext cx="5158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09480" y="3276720"/>
                <a:ext cx="350532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6" name=""/>
          <p:cNvGraphicFramePr/>
          <p:nvPr/>
        </p:nvGraphicFramePr>
        <p:xfrm>
          <a:off x="3025800" y="3962520"/>
          <a:ext cx="828720" cy="612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025800" y="3962520"/>
                    <a:ext cx="82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676520" y="4648320"/>
          <a:ext cx="1030320" cy="519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676520" y="4648320"/>
                    <a:ext cx="10303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838080" y="3962520"/>
          <a:ext cx="828720" cy="6127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38080" y="3962520"/>
                    <a:ext cx="828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092240" y="4572000"/>
            <a:ext cx="28954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90720" y="4572000"/>
          <a:ext cx="774720" cy="620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990720" y="4572000"/>
                    <a:ext cx="7747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147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odeling a Real-Life Probl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9" name=""/>
          <p:cNvGraphicFramePr/>
          <p:nvPr/>
        </p:nvGraphicFramePr>
        <p:xfrm>
          <a:off x="2895480" y="4114800"/>
          <a:ext cx="54936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4114800"/>
                    <a:ext cx="54936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0" y="114300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10. After a sale, the price of a stereo was marked up $35 to a regular price of $310. What was the sale pri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352680" y="3200400"/>
          <a:ext cx="654120" cy="6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200400"/>
                    <a:ext cx="65412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0" y="29718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Verb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3200400"/>
            <a:ext cx="1828800" cy="56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Sale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3200400"/>
            <a:ext cx="17524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Mark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715000" y="3351240"/>
          <a:ext cx="609480" cy="49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3351240"/>
                    <a:ext cx="6094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6248520" y="3200400"/>
            <a:ext cx="25905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Regular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394080" y="4038480"/>
          <a:ext cx="1441440" cy="66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94080" y="4038480"/>
                    <a:ext cx="144144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828800" y="59436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The sale price was $275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743200" y="2362320"/>
          <a:ext cx="3594240" cy="799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2362320"/>
                    <a:ext cx="35942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4952880" y="4038480"/>
          <a:ext cx="1940040" cy="663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4038480"/>
                    <a:ext cx="194004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581280" y="4648320"/>
          <a:ext cx="1244880" cy="669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81280" y="4648320"/>
                    <a:ext cx="12448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952880" y="5257800"/>
          <a:ext cx="1979640" cy="682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52880" y="5257800"/>
                    <a:ext cx="19796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410080" y="4648320"/>
          <a:ext cx="1447920" cy="658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10080" y="4648320"/>
                    <a:ext cx="144792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276720" y="5257800"/>
            <a:ext cx="35812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267080" y="5334120"/>
          <a:ext cx="642960" cy="761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267080" y="5334120"/>
                    <a:ext cx="6429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6" name="" descr=""/>
          <p:cNvPicPr/>
          <p:nvPr/>
        </p:nvPicPr>
        <p:blipFill>
          <a:blip r:embed="rId21"/>
          <a:stretch/>
        </p:blipFill>
        <p:spPr>
          <a:xfrm>
            <a:off x="6858000" y="152280"/>
            <a:ext cx="18511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3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 SKELTON</cp:lastModifiedBy>
  <dcterms:modified xsi:type="dcterms:W3CDTF">2004-09-07T20:20:10Z</dcterms:modified>
  <cp:revision>120</cp:revision>
  <dc:subject/>
  <dc:title>No Slide Title</dc:title>
</cp:coreProperties>
</file>